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F66E-FF74-4133-BD22-B4863A114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BCCF-78F8-4244-96C4-A005A5F4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5A80-B16E-43F5-8D90-1752FC44A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1D1C-9400-4F13-81F1-350366085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9504-E44F-45B9-8124-4FBBBB262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7B46-8A68-46D8-802E-8251AAE1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257A-42E1-4AB9-99CD-6CD4DA81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9028-6CA8-4B3C-9F91-E5D9191E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E3997-EE49-4F16-B6CA-74DE16A5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E69D-D87B-4633-A817-A280A5B8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23C4C-01C8-4DCE-8EE4-8F72A242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FA46-F4D8-43C0-989C-01DAF10A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DA5F-9610-420F-AF49-D7254554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0A33-349B-4269-B354-A23D30B0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0B0F3-EE24-4EB2-A028-A163EB9F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4DF1-442A-42F6-9E82-E6C891255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CD9F-A32F-4EA7-98E9-4A5022F27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D5CDC-13F2-46C9-BB5D-8723E08AF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0A72B-EBA0-414E-B708-A8352F40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1C06B-A6F6-45BC-B0FB-B337CB87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2A5D0-E076-4F00-B09A-76288221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F0E3C-F415-44D3-A3E0-17A901A5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5DB3-4CEC-4775-930D-D51D3233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605EA-E6A3-4C33-A36B-BBD82914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F0B7B-7A3A-4706-9139-79E655A6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6994A-BAA2-43A2-A7CD-E49CCAE8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A5A23-287C-410A-8BA3-B3927664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F752F-B5E7-4B1A-A53B-99C1F4B6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B51B2-7077-4E3F-8CD7-719715B2F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C83AF-152A-4692-A595-CA5CD2880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A7FAB-6ECB-4054-8AAE-386D39C2A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72CB9-CCAE-4420-93D3-EDEE51EE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63EEB-AD2D-4937-93C6-7A4BD0B5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63D3-C257-4E58-9A52-7C904716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5387D-4BB6-4FCC-956A-19A6ADA8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F2EFB-FE14-4604-88A6-AF8D8181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172DF-3BA1-4A98-A87D-D3F08DEB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CF6D9-339E-4B86-AD6E-F569A8A5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24BE9-6C43-4836-8D9F-0BCCB1E1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E1C03-5686-4C97-BE9C-83F3130B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13D80-1C40-4480-AE4B-E305AAA6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1BBA0-15C6-484F-81C8-A1427316C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5B1C5-E25A-4D57-99AA-6F6E6B480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8440A-F9CD-4A90-BE79-41B0CB1B1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20DE-9A84-4B33-A3DF-085D18AE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70964-3E27-4628-B9D6-5402FCE2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8AD37-1207-43F1-ACDC-A24C1E34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316A9-342D-402A-A533-8B526706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98700-6185-4D8D-A6DD-E17D8759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C2FE9-DFE0-45CD-84BD-4017AAE5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3192B-03E1-4514-B986-FC657358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3333B-8292-4DEE-B260-CC7D7BE1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EF65B-3D82-4EE2-8FAF-D1D8CE9A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CE32E-0294-4716-BC4C-96131DBE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7ECD0-7883-441F-8CCA-8F8C1C997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F40E-0993-4CBE-9296-14B220C0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3278D-E9C6-48B7-9F43-1CA64F5E3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EBBBF-0155-4BDC-8188-CF00CBBFF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FB61B-D525-49E9-AAC0-35F949CB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DB0E2-8CD1-4375-B530-933A4094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FE85F-455A-4457-B73C-54E56197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D46F8-25D4-4353-9EF6-5842E7CC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5FB33-FA02-4C6B-9A60-501DCA6F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833F1-1BE5-4847-AA7E-5021798A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1FC04-6868-4B0F-A323-B585B37F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7C8F9-F627-42D8-9151-8817C322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E2FE-F636-44C7-B8D7-CFC75467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6A290-D596-4F9F-8542-338FEB63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1509F-F741-458C-B023-1A2C1DCA4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EDA8F-9614-448D-8C7E-EEE5C6072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E4E2E-643E-47EC-B4C7-7BC107CA9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A3938-1951-465E-8BC9-223F31D8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0D266-0D13-49FF-BBC3-11E4BEE5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306A0-3BC6-449F-BBEC-C90A49EC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7C419-5CC8-4487-95BB-9839974D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89533-A2C6-41D3-B330-7CA6EE49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13360-A399-488C-8EE1-92FE5ECD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E055-6836-4432-B9FA-B61CB70C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68D20-4352-4A21-A6C1-D47FCD9D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726E8-0D4A-4B77-AC93-41ED5EA2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DC330-A117-468A-B8D5-C967E40C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5DFE2-D4F0-4B88-8E88-2EB50BEF4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54F01-31C9-4B8C-9544-7B2CD71D0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8583-9D29-4605-A2B7-B5C2E697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132804_1.jpg"/>
          <p:cNvPicPr/>
          <p:nvPr/>
        </p:nvPicPr>
        <p:blipFill>
          <a:blip r:embed="rId3"/>
          <a:stretch/>
        </p:blipFill>
        <p:spPr>
          <a:xfrm>
            <a:off x="0" y="5497560"/>
            <a:ext cx="1793880" cy="1360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4355-292D-4FED-85D3-22487E8815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Прямоугольник 7"/>
          <p:cNvSpPr/>
          <p:nvPr/>
        </p:nvSpPr>
        <p:spPr>
          <a:xfrm>
            <a:off x="7948800" y="6642000"/>
            <a:ext cx="118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ma-SE" sz="800" spc="-1" strike="noStrike">
                <a:solidFill>
                  <a:srgbClr val="ffffff"/>
                </a:solidFill>
                <a:latin typeface="Calibri"/>
              </a:rPr>
              <a:t>http://ku4mina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8" descr="132804_1.jpg"/>
          <p:cNvPicPr/>
          <p:nvPr/>
        </p:nvPicPr>
        <p:blipFill>
          <a:blip r:embed="rId3"/>
          <a:stretch/>
        </p:blipFill>
        <p:spPr>
          <a:xfrm>
            <a:off x="571680" y="4286160"/>
            <a:ext cx="2827080" cy="214632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9"/>
          <p:cNvSpPr/>
          <p:nvPr/>
        </p:nvSpPr>
        <p:spPr>
          <a:xfrm>
            <a:off x="7948800" y="6642000"/>
            <a:ext cx="118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ma-SE" sz="800" spc="-1" strike="noStrike">
                <a:solidFill>
                  <a:srgbClr val="ffffff"/>
                </a:solidFill>
                <a:latin typeface="Calibri"/>
              </a:rPr>
              <a:t>http://ku4mina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AFE7-F1A6-467D-9E4E-46D8BA759E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7948800" y="6642000"/>
            <a:ext cx="118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ma-SE" sz="800" spc="-1" strike="noStrike">
                <a:solidFill>
                  <a:srgbClr val="ffffff"/>
                </a:solidFill>
                <a:latin typeface="Calibri"/>
              </a:rPr>
              <a:t>http://ku4mina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2FC8-2081-4502-BC17-8628ADCD1F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8" descr="132804_1.jpg"/>
          <p:cNvPicPr/>
          <p:nvPr/>
        </p:nvPicPr>
        <p:blipFill>
          <a:blip r:embed="rId3"/>
          <a:stretch/>
        </p:blipFill>
        <p:spPr>
          <a:xfrm>
            <a:off x="0" y="285840"/>
            <a:ext cx="1357200" cy="103032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9"/>
          <p:cNvSpPr/>
          <p:nvPr/>
        </p:nvSpPr>
        <p:spPr>
          <a:xfrm>
            <a:off x="7948800" y="6642000"/>
            <a:ext cx="118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ma-SE" sz="800" spc="-1" strike="noStrike">
                <a:solidFill>
                  <a:srgbClr val="ffffff"/>
                </a:solidFill>
                <a:latin typeface="Calibri"/>
              </a:rPr>
              <a:t>http://ku4mina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74FA-682E-43A2-A6E2-3AAC520A34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ольник 8"/>
          <p:cNvSpPr/>
          <p:nvPr/>
        </p:nvSpPr>
        <p:spPr>
          <a:xfrm>
            <a:off x="7948800" y="6642000"/>
            <a:ext cx="118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ma-SE" sz="800" spc="-1" strike="noStrike">
                <a:solidFill>
                  <a:srgbClr val="ffffff"/>
                </a:solidFill>
                <a:latin typeface="Calibri"/>
              </a:rPr>
              <a:t>http://ku4mina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EF62-01DD-490F-8411-4DB240B6A4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Прямоугольник 8"/>
          <p:cNvSpPr/>
          <p:nvPr/>
        </p:nvSpPr>
        <p:spPr>
          <a:xfrm>
            <a:off x="7948800" y="6642000"/>
            <a:ext cx="118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ma-SE" sz="800" spc="-1" strike="noStrike">
                <a:solidFill>
                  <a:srgbClr val="ffffff"/>
                </a:solidFill>
                <a:latin typeface="Calibri"/>
              </a:rPr>
              <a:t>http://ku4mina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9948-D1CE-4DF2-AAAA-417F9AD137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оугольник 8"/>
          <p:cNvSpPr/>
          <p:nvPr/>
        </p:nvSpPr>
        <p:spPr>
          <a:xfrm>
            <a:off x="7948800" y="6642000"/>
            <a:ext cx="118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ma-SE" sz="800" spc="-1" strike="noStrike">
                <a:solidFill>
                  <a:srgbClr val="ffffff"/>
                </a:solidFill>
                <a:latin typeface="Calibri"/>
              </a:rPr>
              <a:t>http://ku4mina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65E6-8EDD-4C0A-A25A-033F1910A7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тевой проект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мире поэзи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2500200" y="2999880"/>
            <a:ext cx="5786640" cy="26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Monotype Corsiva"/>
              </a:rPr>
              <a:t>Участники проекта – команда «Книголюбы», учащиеся 6 «А» МБОУ «Верховажская средняя школа имени Я.Я.Кремлев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Picture 4" descr="C:\Users\User\Documents\logo.gif"/>
          <p:cNvPicPr/>
          <p:nvPr/>
        </p:nvPicPr>
        <p:blipFill>
          <a:blip r:embed="rId1"/>
          <a:stretch/>
        </p:blipFill>
        <p:spPr>
          <a:xfrm>
            <a:off x="714240" y="714240"/>
            <a:ext cx="138132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равни стихотворе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857160"/>
            <a:ext cx="404028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Гей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44720" y="928440"/>
            <a:ext cx="404172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Лермон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357800" y="1428840"/>
            <a:ext cx="464328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вере дик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голой вершин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одинокой, пустынной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та снегом сыпучим, как ризой (риза – верхняя одежда священника, надеваемая во время богослужени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и грустна…прекрасная паль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тёсе горючем ( горючий – от горе, горестный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6840" y="1428840"/>
            <a:ext cx="361476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севе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холодной верши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елым покрывалом окутывают её лёд и сне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иноко и молча печалит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пылающей скале (огненной, горящей 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340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Картины поэзи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356760"/>
            <a:ext cx="654372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Picture 3" descr=""/>
          <p:cNvPicPr/>
          <p:nvPr/>
        </p:nvPicPr>
        <p:blipFill>
          <a:blip r:embed="rId1"/>
          <a:stretch/>
        </p:blipFill>
        <p:spPr>
          <a:xfrm>
            <a:off x="642960" y="1214280"/>
            <a:ext cx="792972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340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Картины поэзи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356760"/>
            <a:ext cx="654372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Рисунок 1" descr=""/>
          <p:cNvPicPr/>
          <p:nvPr/>
        </p:nvPicPr>
        <p:blipFill>
          <a:blip r:embed="rId1"/>
          <a:stretch/>
        </p:blipFill>
        <p:spPr>
          <a:xfrm>
            <a:off x="900000" y="1139760"/>
            <a:ext cx="728208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Использованные ресурс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http://img-fotki.yandex.ru/get/5903/zomka.222/0_61638_db164b6b_L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фон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http://www.komus.ru/photo/full/132804_1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книги, перо, чернильниц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belcanto.ru/media/images/publication/14100625_1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портрет Лермонт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b1.culture.ru/c/25603.688x392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фото с. Тархан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nasledie-rus.ru/img/1110000/1110508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портрет бабушки Лермонт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nasledie-rus.ru/img/1110000/1111101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портрет Лермонтова в детств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sbornik-stihov.ru/grafika55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портрет Генриха Гей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удем знаком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153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ермонтов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ихаил Юрьевич Лермонт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1814-184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ын страданья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7" descr="C:\Users\User\Documents\lermontov4.jpg"/>
          <p:cNvPicPr/>
          <p:nvPr/>
        </p:nvPicPr>
        <p:blipFill>
          <a:blip r:embed="rId1"/>
          <a:stretch/>
        </p:blipFill>
        <p:spPr>
          <a:xfrm>
            <a:off x="500040" y="1500120"/>
            <a:ext cx="34830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удем знаком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56760" y="1571760"/>
            <a:ext cx="300852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тво М.Лермонтова прошло в с.Тарханы Пензенской губерн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" name="Рисунок 1" descr=""/>
          <p:cNvPicPr/>
          <p:nvPr/>
        </p:nvPicPr>
        <p:blipFill>
          <a:blip r:embed="rId1"/>
          <a:stretch/>
        </p:blipFill>
        <p:spPr>
          <a:xfrm>
            <a:off x="3762360" y="1434960"/>
            <a:ext cx="492444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удем знаком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шель (так называли его близкие люди) рано потерял мать. Воспитанием мальчика занималась бабушка, Елизавета Алексеев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Рисунок 1" descr=""/>
          <p:cNvPicPr/>
          <p:nvPr/>
        </p:nvPicPr>
        <p:blipFill>
          <a:blip r:embed="rId1"/>
          <a:stretch/>
        </p:blipFill>
        <p:spPr>
          <a:xfrm>
            <a:off x="3924360" y="853920"/>
            <a:ext cx="3809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удем знаком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безграничную любовь бабушки, мальчик часто чувствовал себя одиноким и несчастн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Рисунок 1" descr=""/>
          <p:cNvPicPr/>
          <p:nvPr/>
        </p:nvPicPr>
        <p:blipFill>
          <a:blip r:embed="rId1"/>
          <a:stretch/>
        </p:blipFill>
        <p:spPr>
          <a:xfrm>
            <a:off x="4226040" y="706320"/>
            <a:ext cx="380988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удем знаком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1179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хаил в детстве занимался музыкой, рисованием, шахматами, литературо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собенно немецкой). Он словно чувствовал, что жизнь его будет короткой. А ему так много нужно успеть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Picture 7" descr="C:\Users\User\Documents\lermontov4.jpg"/>
          <p:cNvPicPr/>
          <p:nvPr/>
        </p:nvPicPr>
        <p:blipFill>
          <a:blip r:embed="rId1"/>
          <a:stretch/>
        </p:blipFill>
        <p:spPr>
          <a:xfrm>
            <a:off x="4211640" y="1125360"/>
            <a:ext cx="381168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604368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Открывая этот мир волшебный»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5000400" y="713880"/>
            <a:ext cx="36860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13880" y="1143000"/>
            <a:ext cx="45975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вере диком стоит одинок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На голой вершине сосн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емлет, качаясь, и снегом сыпучи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Одета, как ризой, он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нится ей все, что в пустыне далеко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В том крае, где солнца восход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и грустна на утесе горюче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Прекрасная пальма раст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Содержимое 5" descr="i (1).jpg"/>
          <p:cNvPicPr/>
          <p:nvPr/>
        </p:nvPicPr>
        <p:blipFill>
          <a:blip r:embed="rId1"/>
          <a:stretch/>
        </p:blipFill>
        <p:spPr>
          <a:xfrm>
            <a:off x="5429160" y="1714680"/>
            <a:ext cx="340056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732960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Открывая этот мир волшебный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28760" y="1642680"/>
            <a:ext cx="48830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окая, груст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т, думает, снит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тся ей паль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оче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5103000" y="2738880"/>
            <a:ext cx="2910240" cy="287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a452a"/>
            </a:solidFill>
            <a:miter/>
          </a:ln>
        </p:spPr>
        <p:txBody>
          <a:bodyPr anchor="ctr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он, радост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Выноска-облако 8"/>
          <p:cNvSpPr/>
          <p:nvPr/>
        </p:nvSpPr>
        <p:spPr>
          <a:xfrm>
            <a:off x="5857920" y="2714760"/>
            <a:ext cx="1071360" cy="5713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4bd97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Выноска-облако 11"/>
          <p:cNvSpPr/>
          <p:nvPr/>
        </p:nvSpPr>
        <p:spPr>
          <a:xfrm>
            <a:off x="6786720" y="3071880"/>
            <a:ext cx="1357200" cy="7142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4bd97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е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Выноска-облако 12"/>
          <p:cNvSpPr/>
          <p:nvPr/>
        </p:nvSpPr>
        <p:spPr>
          <a:xfrm>
            <a:off x="4714920" y="3357720"/>
            <a:ext cx="1143000" cy="7142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4bd97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с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Выноска-облако 13"/>
          <p:cNvSpPr/>
          <p:nvPr/>
        </p:nvSpPr>
        <p:spPr>
          <a:xfrm>
            <a:off x="6786720" y="4357800"/>
            <a:ext cx="1285560" cy="7858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4bd97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а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Выноска-облако 14"/>
          <p:cNvSpPr/>
          <p:nvPr/>
        </p:nvSpPr>
        <p:spPr>
          <a:xfrm>
            <a:off x="4857840" y="4643280"/>
            <a:ext cx="1428840" cy="5716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4bd97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аст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Выноска-облако 15"/>
          <p:cNvSpPr/>
          <p:nvPr/>
        </p:nvSpPr>
        <p:spPr>
          <a:xfrm>
            <a:off x="5643720" y="3500280"/>
            <a:ext cx="1285560" cy="10004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4bd97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ушевный м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Выноска-облако 16"/>
          <p:cNvSpPr/>
          <p:nvPr/>
        </p:nvSpPr>
        <p:spPr>
          <a:xfrm>
            <a:off x="6000840" y="5429160"/>
            <a:ext cx="1500120" cy="6429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4bd97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у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6543720" cy="77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ово - отражение мысли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284720" y="246240"/>
            <a:ext cx="440208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 севере диком…» по сути это не авторское стихотворение — это перевод лирической миниатюры немецкого романтика Генриха Гей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683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на стоит одинок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вере на холодной вершин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дремлет, белым покрывало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утывают её лёд и сне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мечтает о пальме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ая далеко на восток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око и молча печалитс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ылающей скал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Гей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8" name="Рисунок 1" descr=""/>
          <p:cNvPicPr/>
          <p:nvPr/>
        </p:nvPicPr>
        <p:blipFill>
          <a:blip r:embed="rId1"/>
          <a:stretch/>
        </p:blipFill>
        <p:spPr>
          <a:xfrm>
            <a:off x="5148360" y="3381480"/>
            <a:ext cx="237312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7T17:56:24Z</dcterms:created>
  <dc:creator>User</dc:creator>
  <dc:description/>
  <dc:language>en-US</dc:language>
  <cp:lastModifiedBy>user</cp:lastModifiedBy>
  <dcterms:modified xsi:type="dcterms:W3CDTF">2015-10-30T08:47:02Z</dcterms:modified>
  <cp:revision>25</cp:revision>
  <dc:subject/>
  <dc:title>         Сетевой проект  «В мире поэзии»</dc:title>
</cp:coreProperties>
</file>